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E228-389D-4168-89D4-54A9FD2191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12A0-CA40-4581-8CE6-8BC585E8B3F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331-E387-4AAC-A742-E6205F7D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461-DE21-47D7-82B1-05171C0A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B67-D159-4EA1-B136-A82A35F7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8C9-1E8B-4E06-9D25-09B686DC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DEB-5C69-4AE6-8190-E463B62F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704-EBF8-493D-A923-7A58E194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06C-6FE9-461E-8DFC-48DAE0E6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A36-25D1-4EAA-9799-1079F8B7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046-1C71-48B3-8D84-96E22122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0DD-CC34-4D89-B1E3-8419070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324-391A-4976-ACD7-0BC4423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0BD-F731-47DA-8429-8894EDC1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D0D6-7EA6-4D86-9C82-5D94E4846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Lucida Sans"/>
              </a:rPr>
              <a:t>Nazi-Soviet Pa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0000" y="6340320"/>
            <a:ext cx="300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y Mr Barg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Hugh Christie Technology Colle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765480" y="6340320"/>
            <a:ext cx="22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ownloaded fr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www.SchoolHistory.co.u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Sans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Stalin had been very worried about German threats to the Soviet Union since Hitler came to power in 19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Hitler had openly stated that he wanted Soviet land for his Lebensr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Stalin tried to create alliances with Britain and France but to no av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In 1934 Stalin took the USSR into the League of Nations as a guarantee against German aggres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Sans"/>
              </a:rPr>
              <a:t>The League Of 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Stalin gained no satisfaction from the League. Instead he saw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Abyssi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Spanish Civil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German rearm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  <p:sndAc>
      <p:stSnd>
        <p:snd r:embed="rId1" name="WHOOSH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Britain and Fr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Brita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Some welcomed a strong Germany as a force to fight Communi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Communism was seen as a bigger threat than Hi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Fra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Stalin signed a pact with France in 193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He did not trust the French to keep to it- especially after Rhine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75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75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The Munich Agre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This agreement made Stalin even more w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Stalin was not consulted about the 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Stalin concluded that Britain and France were powerless to stop Hi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Or that they were happy for Hitler to take over Eastern Europe and the USS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  <p:sndAc>
      <p:stSnd>
        <p:snd r:embed="rId1" name="WHOOSH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The Next Mo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Despite misgivings Stalin was still prepared to talk to Britain and France about an al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The three countries met in March 19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Chamberlain was reluctant to commit Bri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Stalin believed that Britain and France made things worse by guaranteeing to defend Poland if it were atta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Chamberlain saw the guarantee as a warning to Hit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Stalin saw it as support for a potential enem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A Twist in the tal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Negotiations continued between Britain, France and the USSR throughout Spring and Summer 1939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Stalin, however, was also getting visits from Nazi foreign minister Ribbentrop to discuss a Nazi-Soviet 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The deed is don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On 24 August 1939 Stalin made his decision and signed a pact with Germ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The world was shocked as two arch enemies promised not to attack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Privately they also agreed to divide Po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Lucida Handwriting"/>
              </a:rPr>
              <a:t>Why did Stalin sign the pact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Stalin was not convinced that Britain and France would be strong and reliable allies against Hit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He also wanted large parts of eastern Po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He did not believe that Hitler would keep his word. He wanted time to build up his for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horz"/>
    <p:sndAc>
      <p:stSnd>
        <p:snd r:embed="rId1" name="WHOOSH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7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17:37:27Z</dcterms:created>
  <dc:creator>Paul Bargery</dc:creator>
  <dc:description/>
  <dc:language>en-US</dc:language>
  <cp:lastModifiedBy>.</cp:lastModifiedBy>
  <dcterms:modified xsi:type="dcterms:W3CDTF">2010-03-12T08:15:40Z</dcterms:modified>
  <cp:revision>4</cp:revision>
  <dc:subject/>
  <dc:title>Nazi-Soviet Pact</dc:title>
</cp:coreProperties>
</file>